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654-94F3-4362-ABD2-48303F73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4E0E-23CA-47DB-8BD9-70E31622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8613-5D4A-457F-8298-81369C46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238F-46C5-4CFF-8EF9-EC2173E3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B3C4-056B-4D2A-88E1-322D8D83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E91B-DA24-4A4D-81A7-8F6D7BC6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C707-06B7-4CD4-85DD-763F71C9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8A30-0A39-4F14-91D8-99AE4736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BF81-FD50-4748-AFBB-A4CB0D5D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A237-EC3D-4E65-8514-9E280D9A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27B8-473F-4B98-947A-C90E8E02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9506-B0BE-4145-A3FE-6D6809FE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28F5-40B6-4E41-B5C3-4BBFEE94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4E55-7F25-4258-BDD9-2529671B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702D-4FE2-4708-A14D-7EE555CE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5B1A-3FDB-48BD-93A7-D15E808A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2DBD-8BE0-4595-92EE-0DD9BB33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39911-5960-4F7E-8C6A-0BDD74C0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37FD5-5D3B-492F-BBD2-F4B2947E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5ED95-EB19-4869-BFCD-5A5CA48B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70319-E481-4014-B20C-CE576D77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C799A-0169-4EED-9A7D-18EF692B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6B5F-DD8F-4002-BF82-0F56A94D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5405D-5015-449D-B156-8AD68060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19D28-B2D9-4460-9A7F-C949FB6F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84243-DA16-43B5-B7A9-87754453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7203F-E9FC-436A-B6AF-6EC4652F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AFFC2-FD98-491F-92E2-37148825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AD500D-B27B-48FE-A006-0EA762E6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86B47-21B9-46C8-9646-5B74C3C8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F2C3C-1D9C-4013-B02E-F9279CF4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3BDC7-2033-4DA4-B5CD-4D3F5CF2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384EE-CD38-4F78-AD18-7FF54A58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0FAC-5745-43CC-853D-26FA00F4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EF33E-3008-4390-B2E5-5589E210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E202E-7921-4D08-9ED3-F0F540BE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CB9CA-040F-4366-A38B-D4A5E922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D5B74-D961-4658-B6E8-FCC01BE0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150F3-BFAA-4D9E-9273-8AE0FDE1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FAF2C-6A11-49A1-96D9-682D07AF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02E98-B59E-4775-AD4F-70C4C308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A0500-8263-4195-82EF-275D1F49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6CE10-5AD7-4694-AAA1-FD479F9E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3AD219-0E15-4B8B-9D4D-86CFB8F5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DB62-D9F2-473E-9566-C5271327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9F8BC2-6C71-41C8-8DDB-FBBA7789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ABB4A-6E32-4C0C-BCDD-12250570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5F59F-F73C-4CC8-8DDF-DD475DE2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CD29E-3BD6-41EC-99E2-2DA60A39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A25E8-794E-4882-85EA-04963C54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6F1F7-DEA2-4157-942F-7CB0D5DD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440E5E-7443-49FC-9116-565CE89D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C00CAD-971F-4067-A5D6-7FC40DB9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B1145B-94E9-4D9B-AB61-5541D84E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62AFD7-9633-47B3-8A3D-AFDDE6BC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9BB-74FA-4E23-9ECE-80950476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29FEF1-01C4-4A28-81EC-B97C156E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4B3AFC-A1CC-4D4E-B0E8-8728F852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749D8C-E760-48D2-A5D2-3F7B6320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FA1C8E-76F0-476A-BDB7-2E6FC94F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050609-0FDE-40A9-A594-E5D09FB0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31C68D-52D6-4237-9AF0-102FC7EA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CB687C-2405-4787-8AE1-AC2F6BFB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0C5924-EFF5-491D-A9D0-859F9871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6AA72E-1EA6-40F3-A11F-90EDBEF0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7D2D23-A679-403D-88F9-3A1E2441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CFE-9583-4C14-9BFA-F887B2A3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A98B25-3647-4712-A620-537888FC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C4673A-2AA9-4137-8774-B8A5CC01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D88293-8775-4BAD-8962-19A09542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B76FA6-4156-401E-A788-A9EBF855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970102-CD83-4066-A0EF-217E01F6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46D6E3-85CE-4F11-B3AD-7CC48B78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922466-EC99-4B1C-9D74-0C12DAA8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913AA5-C3A6-4D6F-83F7-1901BF60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99AEB2-3235-49E5-A9F7-7CF3BE2C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4E2D52-3A0F-45E7-8326-88C429FA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7E4-E95E-410C-9306-ADA1E5BB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401598-8FAA-43B5-A76F-1514BEC9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772644-F417-483B-8D53-07084F01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FA1390-4306-48AD-8708-40038E5C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E4C19B-56E0-49D7-9547-973D409D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7D835E-57ED-4059-A2A1-410FAAB4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E671-EECB-4CB8-B662-6C8B0D4F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B4F9-43C7-4AC4-B122-8EDCAAA2703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4723-B274-4D10-9DE9-5EB35643C24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C44C-9514-4744-8985-8667391B3EB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1BFC-8F25-4754-A826-43A0102A78C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7CDB-4DC3-49FA-93B3-D89E3188E86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3416-E984-4FD5-9AC4-FB70F31DFA8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3F13-517F-442F-8300-16C03C2D831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istral"/>
              </a:rPr>
              <a:t>ПРИНЦИП КОНТРАСТА  ПРИ  СОЗДАНИИ ХАРАКТЕРОВ  ЖИЛИНА И </a:t>
            </a:r>
            <a:r>
              <a:rPr b="1" lang="ru-RU" sz="7400" spc="-1" strike="noStrike">
                <a:solidFill>
                  <a:srgbClr val="c00000"/>
                </a:solidFill>
                <a:latin typeface="Mistral"/>
              </a:rPr>
              <a:t>К</a:t>
            </a:r>
            <a:r>
              <a:rPr b="1" lang="ru-RU" sz="6000" spc="-1" strike="noStrike">
                <a:solidFill>
                  <a:srgbClr val="c00000"/>
                </a:solidFill>
                <a:latin typeface="Mistral"/>
              </a:rPr>
              <a:t>ОСТЫЛИНА.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23640" y="3068280"/>
            <a:ext cx="80722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istral"/>
              </a:rPr>
              <a:t>Студентки 4 курса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Mistral"/>
              </a:rPr>
              <a:t>филологического факультета КГПИ 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istral"/>
              </a:rPr>
              <a:t>Прудниковой Татьяны Сергеевны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1571760" y="592920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istral"/>
              </a:rPr>
              <a:t>СЫКТЫВКАР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Mistral"/>
              </a:rPr>
              <a:t>ИНФОРМАЦИОННЫЕ РЕСУРСЫ: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chugreev.ru/chaldini/contrast.ht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www.lit100.ru/text.php?t=111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www.rvb.ru/tolstoy/01text/vol_10/01text/0243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festival.1september.ru/articles/557006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www.rvb.ru/tolstoy/01text/vol_10/01text/0243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istral"/>
              </a:rPr>
              <a:t>ГЛАВНЫЙ  ВОПРОС: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50920" y="263700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ПЛЕНЕНИЕ ТЕЛА ПЛЕНЯЕТ                      ДУШУ ?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74678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istral"/>
              </a:rPr>
              <a:t>МЫ ОТВЕТИМ НА ВОПРОСЫ: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28760" y="1143000"/>
            <a:ext cx="8143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ЧТО ТАКОЕ КОНТРАСТ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КАК ПРОЯВЛЯЮТ СЕБЯ ГЕРОИ В КРИТИЧЕСКИХ СИТУАЦИЯХ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КАКИМ ПРЕДСТАЕТ ХАРАКТЕР </a:t>
            </a: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Ж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ИЛИНА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А КАКОВ ХАРАКТЕР </a:t>
            </a: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К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ОСТЫЛИНА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В КАКИХ ЭПИЗОДАХ </a:t>
            </a: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Ж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ИЛИН ПРОЯВЛЯЕТ ХИТРОСТЬ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ПОЧЕМУ ХАРАКТЕРЫ ГЕРОЕВ КОНТРАСТНЫ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ПОЧЕМУ ПРИ ДВУХ ГЕРОЯХ , ПОПАВШИХ В ПЛЕН , РОССКАЗ НАЗВАН «КАВКАЗСКИЙ ПЛЕННИК» 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42840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Mistral"/>
              </a:rPr>
              <a:t>ДЛЯ ЧЕГО НУЖЕН НАШ ПРОЕКТ?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57120" y="1428840"/>
            <a:ext cx="8143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ЧТОБЫ ПОНЯТЬ И ОСОЗНАТЬ ГЛАВНУЮ ИДЕЮ РАССКАЗА  </a:t>
            </a: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Л.Н. Т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ОЛСТОГО «КАВКАЗСКИЙ ПЛЕННИК»;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ЧТОБЫ УЗНАТЬ ЧТО ТАКОЕ КОНТРАСТ;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ЧТОБЫ ВОСПИТАТЬ В СЕБЕ ПОЛОЖИТЕЛЬРЫЕ КАЧЕСТВА ЛИЧНОСТИ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ОТВЕТСТВЕННОСТЬ ЗА ДРУГИХ ЛЮДЕЙ;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СОСТРАДАНИЕ;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СТОЙКОСТЬ , ТЕРПЕНИЕ , ВЕРУ В СЕБЯ В КРИТИЧЕСКИХ СИТУАЦИЯХ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85520" y="214200"/>
            <a:ext cx="7467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Mistral"/>
              </a:rPr>
              <a:t>РАСПРЕДЕЛЕНИЕ ПО ГРУППАМ: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214280"/>
            <a:ext cx="74674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ДЕЛЕНИЕ НА ГРУППЫ ДОБРОВОЛЬНО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Mistral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Mistral"/>
              </a:rPr>
              <a:t>ЗАДАНИЯ ГРУППЕ № 1 :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ПРОАНАЛИЗИРОВАТЬ И РАСКРЫТЬ ХАРАКТЕР </a:t>
            </a: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Ж</a:t>
            </a: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ИЛИНА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ПОДОБРАТЬ ОТРЫВКИ ИЗ РАССКАЗА В КОТОРЫХ РАСКРЫВАЕТСЯ ЛИЧНОСТЬ ГЕРОЯ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ПОДГОТОВИТЬ ТВОРЧЕСКИЙ ОТЧЕТ О РАБОТЕ ГРУППЫ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4678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Mistral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Mistral"/>
              </a:rPr>
              <a:t>ЗАДАНИЯ ГРУППЕ № 2 </a:t>
            </a:r>
            <a:r>
              <a:rPr b="0" lang="ru-RU" sz="4000" spc="-1" strike="noStrike">
                <a:solidFill>
                  <a:srgbClr val="c00000"/>
                </a:solidFill>
                <a:latin typeface="Mistral"/>
              </a:rPr>
              <a:t>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ПРОАНАЛИЗИРОВАТЬ И РАСКРЫТЬ ХАРАКТЕР </a:t>
            </a: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ОСТЫЛИНА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ПОДОБРАТЬ ОТРЫВКИ ИЗ РАССКАЗА В КОТОРЫХ РАСКРЫВАЕТСЯ ЛИЧНОСТЬ ГЕРОЯ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ПОДГОТОВИТЬ ТВОРЧЕСКИЙ ОТЧЕТ О РАБОТЕ ГРУППЫ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Mistral"/>
              </a:rPr>
              <a:t>ПРЕДСТАВЛЕНИЕ РЕЗУЛЬТАТОВ РАБОТЫ ГРУПП: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2143080"/>
            <a:ext cx="746748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СОЧИНЕНИЕ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СРАВНИТЕЛЬНАЯ ХАРАКТЕРИСТИКА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ТВОРЧЕСКАЯ ПРЕЗЕНТАЦИЯ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КРОССВОРД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ВЫСТАВКА РИСУНКОВ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БУКЛЕТ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46748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Mistral"/>
              </a:rPr>
              <a:t>ПЛАН НАШЕЙ РАБОТЫ: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600200"/>
            <a:ext cx="79725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ЗРАКОМСТВО С ТЕКСТОМ РАССКАЗА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РАБОТА ПО ГРУППАМ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ТВОРЧЕСКИЙ ОТЧЕТ ГРУПП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Рисунок 5" descr="kavkazkij_plenik_b[1].jpg"/>
          <p:cNvPicPr/>
          <p:nvPr/>
        </p:nvPicPr>
        <p:blipFill>
          <a:blip r:embed="rId1"/>
          <a:stretch/>
        </p:blipFill>
        <p:spPr>
          <a:xfrm>
            <a:off x="4714920" y="3143160"/>
            <a:ext cx="335736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Mistral"/>
              </a:rPr>
              <a:t>УЧАСТНИКИ ПРОЕКТА: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28760" y="1571400"/>
            <a:ext cx="821520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5 КЛАСС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Mistral"/>
              </a:rPr>
              <a:t>ПРОДОЛЖИТЕЛЬНОСТЬ ПРОЕКТА: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istr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istral"/>
              </a:rPr>
              <a:t>3</a:t>
            </a:r>
            <a:r>
              <a:rPr b="0" lang="ru-RU" sz="3600" spc="-1" strike="noStrike">
                <a:solidFill>
                  <a:srgbClr val="0d0d0d"/>
                </a:solidFill>
                <a:latin typeface="Mistral"/>
              </a:rPr>
              <a:t> ЧАС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Mistral"/>
              </a:rPr>
              <a:t>ПРОГРАММА: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Mistral"/>
              </a:rPr>
              <a:t> </a:t>
            </a:r>
            <a:r>
              <a:rPr b="0" lang="ru-RU" sz="3600" spc="-1" strike="noStrike">
                <a:solidFill>
                  <a:srgbClr val="0d0d0d"/>
                </a:solidFill>
                <a:latin typeface="Mistral"/>
              </a:rPr>
              <a:t>УЧЕБНИК – ХРЕСТОМАТИЯ ПО ЛИТЕРАТУРЕ ДЛЯ 5 КЛАССА ПОД РЕДАКЦИЕЙ </a:t>
            </a:r>
            <a:r>
              <a:rPr b="0" lang="ru-RU" sz="4500" spc="-1" strike="noStrike">
                <a:solidFill>
                  <a:srgbClr val="0d0d0d"/>
                </a:solidFill>
                <a:latin typeface="Mistral"/>
              </a:rPr>
              <a:t>Л</a:t>
            </a:r>
            <a:r>
              <a:rPr b="0" lang="ru-RU" sz="3600" spc="-1" strike="noStrike">
                <a:solidFill>
                  <a:srgbClr val="0d0d0d"/>
                </a:solidFill>
                <a:latin typeface="Mistral"/>
              </a:rPr>
              <a:t>АДЫГИН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5:45:31Z</dcterms:created>
  <dc:creator>я</dc:creator>
  <dc:description/>
  <dc:language>en-US</dc:language>
  <cp:lastModifiedBy>я</cp:lastModifiedBy>
  <dcterms:modified xsi:type="dcterms:W3CDTF">2010-04-20T11:17:36Z</dcterms:modified>
  <cp:revision>50</cp:revision>
  <dc:subject/>
  <dc:title>Слайд 1</dc:title>
</cp:coreProperties>
</file>